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830C-1774-4C75-82CA-1C6F519E31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B864-2A15-48A1-B23A-9DC7764A302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0B0F-F868-4DAC-9F73-1248DFE915D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2A567-D178-4743-A6DF-5527DB4E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7CD96-2293-44FB-971D-07A5DAC2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4C0DB-84F4-4C47-9BEA-72F604A3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CF96B-42AE-4092-A599-A02BBBD0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19208-4BD3-4EB1-997C-D0DE6294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0651B-F988-4C3B-97C4-5D3FB299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F34C8-D6A2-45A9-B18B-B69E5E59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60DDC-A45B-418B-A980-171B0B8D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CA2EF-3D2A-44C7-B6F0-EBC83A1B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B356D-0D82-4ED1-BCDF-BDE263F9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2ABD1-2081-4A82-A0A8-2B4ADDCD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443B6-B9CA-4658-9AC2-8274BBEE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F95723-42CF-4323-A400-3922C9CA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1DAC9E-FC50-40B8-8AF5-B7613141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8842D6-56D8-431F-B516-B9CBB9FD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62562A-E16D-40CC-A1D5-BA5D307F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3C07B5-677A-4CE4-8C95-42C20B00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37E75B-5EB3-4885-903E-B17A5631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6F2E28-FE76-4F31-85D9-91408705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56592C-F30B-4092-99A8-B4EFC47E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C61E30-1886-4712-9540-A10E0374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36FF06-CC95-43DF-AE21-51E64131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424B7B-7777-4928-9BF8-0B4E2F11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DD71AA-C7AA-4DD5-BB1F-8E27321A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126C-EF8A-4843-9183-D9138B139FF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3BC5-0341-4AD5-92B8-D074296A2D25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E718-1E83-4644-BE29-6E399A29A17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EFED-52E2-43B7-B3D7-E427CB6CA1F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5262-F12A-451B-A9C6-D4EB0376D7D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30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601B-5C9A-4B07-9B88-099465D7690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E920-F02F-4D1C-AEC3-7D47AE999016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214360"/>
            <a:ext cx="83152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4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11"/>
          <p:cNvGrpSpPr/>
          <p:nvPr/>
        </p:nvGrpSpPr>
        <p:grpSpPr>
          <a:xfrm>
            <a:off x="285840" y="71280"/>
            <a:ext cx="8715240" cy="5999400"/>
            <a:chOff x="285840" y="71280"/>
            <a:chExt cx="8715240" cy="5999400"/>
          </a:xfrm>
        </p:grpSpPr>
        <p:sp>
          <p:nvSpPr>
            <p:cNvPr id="538" name="AutoShape 4"/>
            <p:cNvSpPr/>
            <p:nvPr/>
          </p:nvSpPr>
          <p:spPr>
            <a:xfrm>
              <a:off x="28584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케어기술의 적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9" name="그룹 7"/>
            <p:cNvGrpSpPr/>
            <p:nvPr/>
          </p:nvGrpSpPr>
          <p:grpSpPr>
            <a:xfrm>
              <a:off x="285840" y="745920"/>
              <a:ext cx="8715240" cy="3254760"/>
              <a:chOff x="285840" y="745920"/>
              <a:chExt cx="8715240" cy="3254760"/>
            </a:xfrm>
          </p:grpSpPr>
          <p:sp>
            <p:nvSpPr>
              <p:cNvPr id="540" name="AutoShape 2"/>
              <p:cNvSpPr/>
              <p:nvPr/>
            </p:nvSpPr>
            <p:spPr>
              <a:xfrm>
                <a:off x="428400" y="1143000"/>
                <a:ext cx="8572680" cy="285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571320" y="1142640"/>
                <a:ext cx="842976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체성과 자립성을 높일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이 유지되고 와상을 예방할 수 있는 주거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와 가족과 통합될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적 사생활이 보장되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에 맞는 기능적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등의 저하로 인한 사고의 예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채광 등의 배려와 비상사태 대응책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시설의 경우 사회적 상호작용을 촉진하는 친사회적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0"/>
              <p:cNvSpPr/>
              <p:nvPr/>
            </p:nvSpPr>
            <p:spPr>
              <a:xfrm>
                <a:off x="285840" y="74592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적합한 생활환경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3" name="직사각형 23"/>
            <p:cNvSpPr/>
            <p:nvPr/>
          </p:nvSpPr>
          <p:spPr>
            <a:xfrm>
              <a:off x="285840" y="4389480"/>
              <a:ext cx="6072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거 및 실내환경 조성방법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직사각형 24"/>
            <p:cNvSpPr/>
            <p:nvPr/>
          </p:nvSpPr>
          <p:spPr>
            <a:xfrm>
              <a:off x="285840" y="5032440"/>
              <a:ext cx="7715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환자의 기본적 일상생활 지원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6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직사각형 25"/>
            <p:cNvSpPr/>
            <p:nvPr/>
          </p:nvSpPr>
          <p:spPr>
            <a:xfrm>
              <a:off x="285840" y="5675400"/>
              <a:ext cx="7286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병의 증상 간호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7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그룹 13"/>
          <p:cNvGrpSpPr/>
          <p:nvPr/>
        </p:nvGrpSpPr>
        <p:grpSpPr>
          <a:xfrm>
            <a:off x="0" y="0"/>
            <a:ext cx="9358200" cy="6656400"/>
            <a:chOff x="0" y="0"/>
            <a:chExt cx="9358200" cy="6656400"/>
          </a:xfrm>
        </p:grpSpPr>
        <p:sp>
          <p:nvSpPr>
            <p:cNvPr id="547" name="AutoShape 2"/>
            <p:cNvSpPr/>
            <p:nvPr/>
          </p:nvSpPr>
          <p:spPr>
            <a:xfrm>
              <a:off x="285480" y="3929040"/>
              <a:ext cx="86439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4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2"/>
            <p:cNvSpPr/>
            <p:nvPr/>
          </p:nvSpPr>
          <p:spPr>
            <a:xfrm>
              <a:off x="1071360" y="71280"/>
              <a:ext cx="82868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8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의 건강문제로 인한 사회비용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85480" y="1285920"/>
              <a:ext cx="86439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1339920"/>
              <a:ext cx="864396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05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,15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 →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,35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의료비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9.0%)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-18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의료급여제도의 노인의료비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총 급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6.6%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당 의료비는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98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만원으로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6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 이하 인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 정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이유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인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기요양 욕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료이용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＋건강보험 수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체게 변화와 인상＋고비용 치료기기 도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3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.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국가재정 악화 초래 가능성→ 노인의료비 경감대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17"/>
            <p:cNvSpPr/>
            <p:nvPr/>
          </p:nvSpPr>
          <p:spPr>
            <a:xfrm>
              <a:off x="285480" y="857160"/>
              <a:ext cx="5072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의료비 증가추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10"/>
            <p:cNvGrpSpPr/>
            <p:nvPr/>
          </p:nvGrpSpPr>
          <p:grpSpPr>
            <a:xfrm>
              <a:off x="285480" y="3486240"/>
              <a:ext cx="8572680" cy="2140920"/>
              <a:chOff x="285480" y="3486240"/>
              <a:chExt cx="8572680" cy="2140920"/>
            </a:xfrm>
          </p:grpSpPr>
          <p:sp>
            <p:nvSpPr>
              <p:cNvPr id="554" name="직사각형 18"/>
              <p:cNvSpPr/>
              <p:nvPr/>
            </p:nvSpPr>
            <p:spPr>
              <a:xfrm>
                <a:off x="285480" y="348624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과 가족의 비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Text Box 6"/>
              <p:cNvSpPr/>
              <p:nvPr/>
            </p:nvSpPr>
            <p:spPr>
              <a:xfrm>
                <a:off x="285480" y="3960720"/>
                <a:ext cx="8572680" cy="166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의하면 노인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16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원의 의료비 지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나 배우자 부담하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가 주로 부담하는 경우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비와 함께 가족노동력 손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등 심리사회적 비용을 동시 고려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가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압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의 제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 갈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할부담과 가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제한 등의 스트레스로 인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기능과 삶의 질이 저하 되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6" name="그룹 12"/>
            <p:cNvGrpSpPr/>
            <p:nvPr/>
          </p:nvGrpSpPr>
          <p:grpSpPr>
            <a:xfrm>
              <a:off x="0" y="5757840"/>
              <a:ext cx="7572240" cy="898560"/>
              <a:chOff x="0" y="5757840"/>
              <a:chExt cx="7572240" cy="898560"/>
            </a:xfrm>
          </p:grpSpPr>
          <p:pic>
            <p:nvPicPr>
              <p:cNvPr id="557" name="Picture 4" descr="C:\DOCUME~1\USER\LOCALS~1\Temp\UNI000006c8818c.gif"/>
              <p:cNvPicPr/>
              <p:nvPr/>
            </p:nvPicPr>
            <p:blipFill>
              <a:blip r:embed="rId12"/>
              <a:stretch/>
            </p:blipFill>
            <p:spPr>
              <a:xfrm>
                <a:off x="0" y="575784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4"/>
              <p:cNvSpPr/>
              <p:nvPr/>
            </p:nvSpPr>
            <p:spPr>
              <a:xfrm>
                <a:off x="857160" y="6084720"/>
                <a:ext cx="671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치매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건강과 노인성 질환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주요 질환과 질병의 양상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일상생활 동작능력과 영양관리방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환자 보호를 위한 케어 기술의 습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건강 문제로 인한 개인 및 사회비용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4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1"/>
          <p:cNvGrpSpPr/>
          <p:nvPr/>
        </p:nvGrpSpPr>
        <p:grpSpPr>
          <a:xfrm>
            <a:off x="0" y="0"/>
            <a:ext cx="9144000" cy="6370200"/>
            <a:chOff x="0" y="0"/>
            <a:chExt cx="9144000" cy="6370200"/>
          </a:xfrm>
        </p:grpSpPr>
        <p:sp>
          <p:nvSpPr>
            <p:cNvPr id="442" name="AutoShape 2"/>
            <p:cNvSpPr/>
            <p:nvPr/>
          </p:nvSpPr>
          <p:spPr>
            <a:xfrm>
              <a:off x="180720" y="128592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건강과 질병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5" name="그룹 10"/>
            <p:cNvGrpSpPr/>
            <p:nvPr/>
          </p:nvGrpSpPr>
          <p:grpSpPr>
            <a:xfrm>
              <a:off x="0" y="857160"/>
              <a:ext cx="8929800" cy="2683800"/>
              <a:chOff x="0" y="857160"/>
              <a:chExt cx="8929800" cy="2683800"/>
            </a:xfrm>
          </p:grpSpPr>
          <p:sp>
            <p:nvSpPr>
              <p:cNvPr id="446" name="AutoShape 29"/>
              <p:cNvSpPr/>
              <p:nvPr/>
            </p:nvSpPr>
            <p:spPr>
              <a:xfrm>
                <a:off x="0" y="8571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건강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7" name="Text Box 25"/>
              <p:cNvSpPr/>
              <p:nvPr/>
            </p:nvSpPr>
            <p:spPr>
              <a:xfrm>
                <a:off x="288720" y="1285560"/>
                <a:ext cx="86410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히 허약성이나 질병이 없는 상태가 아니라 신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완전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HO).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없는 소극적 의미가 아니라 모든 삶의 영역에서의 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하는 적극적 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은 최악의 건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illness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최고의 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health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양극단으로 하는 연속선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없음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위와 역할 수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환경과의 상호작용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스트레스에 적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복론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자기실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 상이하게 규정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8" name="AutoShape 2"/>
            <p:cNvSpPr/>
            <p:nvPr/>
          </p:nvSpPr>
          <p:spPr>
            <a:xfrm>
              <a:off x="180720" y="4000680"/>
              <a:ext cx="88203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142560" y="3571920"/>
              <a:ext cx="8786880" cy="2798280"/>
              <a:chOff x="142560" y="3571920"/>
              <a:chExt cx="8786880" cy="279828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142560" y="35719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질병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90160" y="4000320"/>
                <a:ext cx="8639280" cy="23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에는 건강 결정요인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습관 등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노화과정이 복합적으로 작용하여 정상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가 병리적 노화과정으로 전이되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결과로 질병을 앓을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행 또는 회피가 가능한 생물학적 불균형 상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을 생물학적 기계의 고장으로만 규정하기 보다는 개인의 주관적 건강평가에 관심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울여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히 노년기에는 질병 유무에 의한 객관적 건강평가와 노인의 주관적 판단에 의한 기능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가가 모두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그룹 11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453" name="AutoShape 2"/>
            <p:cNvSpPr/>
            <p:nvPr/>
          </p:nvSpPr>
          <p:spPr>
            <a:xfrm>
              <a:off x="323640" y="4429080"/>
              <a:ext cx="84632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323640" y="1214280"/>
              <a:ext cx="846324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5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성 질환의 특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7" name="그룹 10"/>
            <p:cNvGrpSpPr/>
            <p:nvPr/>
          </p:nvGrpSpPr>
          <p:grpSpPr>
            <a:xfrm>
              <a:off x="145800" y="804600"/>
              <a:ext cx="8926560" cy="3219480"/>
              <a:chOff x="145800" y="804600"/>
              <a:chExt cx="8926560" cy="3219480"/>
            </a:xfrm>
          </p:grpSpPr>
          <p:sp>
            <p:nvSpPr>
              <p:cNvPr id="458" name="AutoShape 29"/>
              <p:cNvSpPr/>
              <p:nvPr/>
            </p:nvSpPr>
            <p:spPr>
              <a:xfrm>
                <a:off x="145800" y="80460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생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병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임상적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25"/>
              <p:cNvSpPr/>
              <p:nvPr/>
            </p:nvSpPr>
            <p:spPr>
              <a:xfrm>
                <a:off x="431280" y="1233000"/>
                <a:ext cx="864108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과 위험인자 사이의 관련성이 약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에 수반되는 증상이 없거나 비전형적인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라 개인차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장기질환의 특성을 지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장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일으키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해질의 균형 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항상성을 유지하기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나 경제생활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체력과 예비능력이 위축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와 병리적 노화의 구분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0" name="그룹 10"/>
            <p:cNvGrpSpPr/>
            <p:nvPr/>
          </p:nvGrpSpPr>
          <p:grpSpPr>
            <a:xfrm>
              <a:off x="142560" y="4000320"/>
              <a:ext cx="8925120" cy="2410200"/>
              <a:chOff x="142560" y="4000320"/>
              <a:chExt cx="8925120" cy="2410200"/>
            </a:xfrm>
          </p:grpSpPr>
          <p:sp>
            <p:nvSpPr>
              <p:cNvPr id="461" name="AutoShape 29"/>
              <p:cNvSpPr/>
              <p:nvPr/>
            </p:nvSpPr>
            <p:spPr>
              <a:xfrm>
                <a:off x="142560" y="40003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진단과 치료과정의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Text Box 25"/>
              <p:cNvSpPr/>
              <p:nvPr/>
            </p:nvSpPr>
            <p:spPr>
              <a:xfrm>
                <a:off x="428040" y="4474800"/>
                <a:ext cx="863964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의 청취가 어려워 진단과 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검사결과가 젊은 환자는 물론 개인에 따라 차이가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합병증을 수반하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적 치료와 간호를 필요로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치료 뿐 아니라 삶의 질에 대한 판단도 중요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상환자가 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6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sp>
          <p:nvSpPr>
            <p:cNvPr id="464" name="AutoShape 2"/>
            <p:cNvSpPr/>
            <p:nvPr/>
          </p:nvSpPr>
          <p:spPr>
            <a:xfrm>
              <a:off x="285480" y="5500800"/>
              <a:ext cx="864396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요 질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7" name="그룹 34"/>
            <p:cNvGrpSpPr/>
            <p:nvPr/>
          </p:nvGrpSpPr>
          <p:grpSpPr>
            <a:xfrm>
              <a:off x="285480" y="928440"/>
              <a:ext cx="8643960" cy="928440"/>
              <a:chOff x="285480" y="928440"/>
              <a:chExt cx="8643960" cy="928440"/>
            </a:xfrm>
          </p:grpSpPr>
          <p:sp>
            <p:nvSpPr>
              <p:cNvPr id="468" name="AutoShape 2"/>
              <p:cNvSpPr/>
              <p:nvPr/>
            </p:nvSpPr>
            <p:spPr>
              <a:xfrm>
                <a:off x="285480" y="128556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AutoShape 4"/>
              <p:cNvSpPr/>
              <p:nvPr/>
            </p:nvSpPr>
            <p:spPr>
              <a:xfrm>
                <a:off x="356760" y="92844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순환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호흡기계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6"/>
              <p:cNvSpPr/>
              <p:nvPr/>
            </p:nvSpPr>
            <p:spPr>
              <a:xfrm>
                <a:off x="285480" y="142848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동맥경화성 혈관질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부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폐쇄성 폐질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1" name="AutoShape 2"/>
            <p:cNvSpPr/>
            <p:nvPr/>
          </p:nvSpPr>
          <p:spPr>
            <a:xfrm>
              <a:off x="285480" y="2357280"/>
              <a:ext cx="864396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2" name="그룹 11"/>
            <p:cNvGrpSpPr/>
            <p:nvPr/>
          </p:nvGrpSpPr>
          <p:grpSpPr>
            <a:xfrm>
              <a:off x="285480" y="2000160"/>
              <a:ext cx="8643960" cy="868680"/>
              <a:chOff x="285480" y="2000160"/>
              <a:chExt cx="8643960" cy="868680"/>
            </a:xfrm>
          </p:grpSpPr>
          <p:sp>
            <p:nvSpPr>
              <p:cNvPr id="473" name="AutoShape 4"/>
              <p:cNvSpPr/>
              <p:nvPr/>
            </p:nvSpPr>
            <p:spPr>
              <a:xfrm>
                <a:off x="356760" y="20001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소화기계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장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6"/>
              <p:cNvSpPr/>
              <p:nvPr/>
            </p:nvSpPr>
            <p:spPr>
              <a:xfrm>
                <a:off x="285480" y="250056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악성 위종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장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간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신부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5" name="그룹 33"/>
            <p:cNvGrpSpPr/>
            <p:nvPr/>
          </p:nvGrpSpPr>
          <p:grpSpPr>
            <a:xfrm>
              <a:off x="285480" y="3071880"/>
              <a:ext cx="8643960" cy="928440"/>
              <a:chOff x="285480" y="3071880"/>
              <a:chExt cx="8643960" cy="92844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285480" y="342900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7" name="그룹 11"/>
              <p:cNvGrpSpPr/>
              <p:nvPr/>
            </p:nvGrpSpPr>
            <p:grpSpPr>
              <a:xfrm>
                <a:off x="285480" y="3071880"/>
                <a:ext cx="8643960" cy="868320"/>
                <a:chOff x="285480" y="3071880"/>
                <a:chExt cx="8643960" cy="868320"/>
              </a:xfrm>
            </p:grpSpPr>
            <p:sp>
              <p:nvSpPr>
                <p:cNvPr id="478" name="AutoShape 4"/>
                <p:cNvSpPr/>
                <p:nvPr/>
              </p:nvSpPr>
              <p:spPr>
                <a:xfrm>
                  <a:off x="356760" y="3071880"/>
                  <a:ext cx="40719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근골격계</a:t>
                  </a: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내분비계 질환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9" name="Text Box 6"/>
                <p:cNvSpPr/>
                <p:nvPr/>
              </p:nvSpPr>
              <p:spPr>
                <a:xfrm>
                  <a:off x="285480" y="3571920"/>
                  <a:ext cx="8643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관절염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골다공증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3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그룹 32"/>
            <p:cNvGrpSpPr/>
            <p:nvPr/>
          </p:nvGrpSpPr>
          <p:grpSpPr>
            <a:xfrm>
              <a:off x="285480" y="4130640"/>
              <a:ext cx="8715600" cy="868680"/>
              <a:chOff x="285480" y="4130640"/>
              <a:chExt cx="8715600" cy="868680"/>
            </a:xfrm>
          </p:grpSpPr>
          <p:sp>
            <p:nvSpPr>
              <p:cNvPr id="481" name="AutoShape 2"/>
              <p:cNvSpPr/>
              <p:nvPr/>
            </p:nvSpPr>
            <p:spPr>
              <a:xfrm>
                <a:off x="285480" y="4416480"/>
                <a:ext cx="8644320" cy="571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2" name="그룹 11"/>
              <p:cNvGrpSpPr/>
              <p:nvPr/>
            </p:nvGrpSpPr>
            <p:grpSpPr>
              <a:xfrm>
                <a:off x="356760" y="4130640"/>
                <a:ext cx="8644320" cy="868680"/>
                <a:chOff x="356760" y="4130640"/>
                <a:chExt cx="8644320" cy="868680"/>
              </a:xfrm>
            </p:grpSpPr>
            <p:sp>
              <p:nvSpPr>
                <p:cNvPr id="483" name="AutoShape 4"/>
                <p:cNvSpPr/>
                <p:nvPr/>
              </p:nvSpPr>
              <p:spPr>
                <a:xfrm>
                  <a:off x="428040" y="4130640"/>
                  <a:ext cx="407196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비뇨기계 질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6"/>
                <p:cNvSpPr/>
                <p:nvPr/>
              </p:nvSpPr>
              <p:spPr>
                <a:xfrm>
                  <a:off x="356760" y="4631040"/>
                  <a:ext cx="864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백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녹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전립선 비대증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5" name="그룹 11"/>
            <p:cNvGrpSpPr/>
            <p:nvPr/>
          </p:nvGrpSpPr>
          <p:grpSpPr>
            <a:xfrm>
              <a:off x="357120" y="5143680"/>
              <a:ext cx="8643960" cy="1204920"/>
              <a:chOff x="357120" y="5143680"/>
              <a:chExt cx="8643960" cy="1204920"/>
            </a:xfrm>
          </p:grpSpPr>
          <p:sp>
            <p:nvSpPr>
              <p:cNvPr id="486" name="AutoShape 4"/>
              <p:cNvSpPr/>
              <p:nvPr/>
            </p:nvSpPr>
            <p:spPr>
              <a:xfrm>
                <a:off x="428400" y="514368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경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정신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Text Box 6"/>
              <p:cNvSpPr/>
              <p:nvPr/>
            </p:nvSpPr>
            <p:spPr>
              <a:xfrm>
                <a:off x="357120" y="5629680"/>
                <a:ext cx="86439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졸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우울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상세히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그룹 18"/>
          <p:cNvGrpSpPr/>
          <p:nvPr/>
        </p:nvGrpSpPr>
        <p:grpSpPr>
          <a:xfrm>
            <a:off x="0" y="0"/>
            <a:ext cx="9358200" cy="6346440"/>
            <a:chOff x="0" y="0"/>
            <a:chExt cx="9358200" cy="6346440"/>
          </a:xfrm>
        </p:grpSpPr>
        <p:sp>
          <p:nvSpPr>
            <p:cNvPr id="48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질병 양상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0" name="그룹 16"/>
            <p:cNvGrpSpPr/>
            <p:nvPr/>
          </p:nvGrpSpPr>
          <p:grpSpPr>
            <a:xfrm>
              <a:off x="0" y="0"/>
              <a:ext cx="9144000" cy="6346440"/>
              <a:chOff x="0" y="0"/>
              <a:chExt cx="9144000" cy="634644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285480" y="2786040"/>
                <a:ext cx="8643960" cy="171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9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85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AutoShape 2"/>
              <p:cNvSpPr/>
              <p:nvPr/>
            </p:nvSpPr>
            <p:spPr>
              <a:xfrm>
                <a:off x="285480" y="1143000"/>
                <a:ext cx="864396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AutoShape 4"/>
              <p:cNvSpPr/>
              <p:nvPr/>
            </p:nvSpPr>
            <p:spPr>
              <a:xfrm>
                <a:off x="357120" y="785520"/>
                <a:ext cx="4319640" cy="323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만성질환 유병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6"/>
              <p:cNvSpPr/>
              <p:nvPr/>
            </p:nvSpPr>
            <p:spPr>
              <a:xfrm>
                <a:off x="285480" y="1142640"/>
                <a:ext cx="867888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9.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만성질환을 앓고 있으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.7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질환을 앓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수준 낮은 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별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저소득 노인의 유병률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관절염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지혈증 등의 순 유병률 높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각한 우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1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저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낙상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6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AutoShape 4"/>
              <p:cNvSpPr/>
              <p:nvPr/>
            </p:nvSpPr>
            <p:spPr>
              <a:xfrm>
                <a:off x="357120" y="2319120"/>
                <a:ext cx="431964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질병의 치료와 수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285480" y="2766960"/>
                <a:ext cx="857268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에 따라 치료행태 다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8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치료약 복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병원방문 노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7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입원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7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득과 교육 수준 낮은 노인 의료이용율이 상대적으로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수발 필요시 받는 경우가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성원이 주로 부양을 담당하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며느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딸로부터 수발 받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히 여성노인 수발자의 부양부담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7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인해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도가 일상생활의 지장을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AutoShape 2"/>
              <p:cNvSpPr/>
              <p:nvPr/>
            </p:nvSpPr>
            <p:spPr>
              <a:xfrm>
                <a:off x="285480" y="4903920"/>
                <a:ext cx="8643960" cy="1382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9" name="그룹 11"/>
              <p:cNvGrpSpPr/>
              <p:nvPr/>
            </p:nvGrpSpPr>
            <p:grpSpPr>
              <a:xfrm>
                <a:off x="285480" y="4643640"/>
                <a:ext cx="8572680" cy="1702800"/>
                <a:chOff x="285480" y="4643640"/>
                <a:chExt cx="8572680" cy="1702800"/>
              </a:xfrm>
            </p:grpSpPr>
            <p:sp>
              <p:nvSpPr>
                <p:cNvPr id="500" name="AutoShape 4"/>
                <p:cNvSpPr/>
                <p:nvPr/>
              </p:nvSpPr>
              <p:spPr>
                <a:xfrm>
                  <a:off x="356760" y="4643640"/>
                  <a:ext cx="4319640" cy="374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3.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장애와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사망원인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6"/>
                <p:cNvSpPr/>
                <p:nvPr/>
              </p:nvSpPr>
              <p:spPr>
                <a:xfrm>
                  <a:off x="285480" y="5050080"/>
                  <a:ext cx="8572680" cy="12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장애출현율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18.00%(114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로 전체 인구에 비해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.5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지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청각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병변 등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순으로 출현율 높음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8 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).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노인 장애인이 전체 장애인의 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46.7%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차지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사망원인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심장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혈관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폐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 등의 순이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중에서는 폐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장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간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위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췌장암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등의 순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그룹 1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일상생활 동작능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6"/>
            <p:cNvGrpSpPr/>
            <p:nvPr/>
          </p:nvGrpSpPr>
          <p:grpSpPr>
            <a:xfrm>
              <a:off x="285480" y="785520"/>
              <a:ext cx="8715600" cy="5572440"/>
              <a:chOff x="285480" y="785520"/>
              <a:chExt cx="8715600" cy="5572440"/>
            </a:xfrm>
          </p:grpSpPr>
          <p:sp>
            <p:nvSpPr>
              <p:cNvPr id="506" name="AutoShape 2"/>
              <p:cNvSpPr/>
              <p:nvPr/>
            </p:nvSpPr>
            <p:spPr>
              <a:xfrm>
                <a:off x="285480" y="4000320"/>
                <a:ext cx="8715600" cy="2357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AutoShape 2"/>
              <p:cNvSpPr/>
              <p:nvPr/>
            </p:nvSpPr>
            <p:spPr>
              <a:xfrm>
                <a:off x="285480" y="1265040"/>
                <a:ext cx="8715600" cy="209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개념과 측정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6760" y="1285560"/>
                <a:ext cx="8644320" cy="20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Katz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동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sic ADL, IADL), Barthel(PADL, IADL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치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체위변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옮겨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변조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변조절 등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단적 일상해뢀 기능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항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= P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lf car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I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 외부 도구적 활동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측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인정조사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능력 평가도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9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arthe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척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0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AutoShape 4"/>
              <p:cNvSpPr/>
              <p:nvPr/>
            </p:nvSpPr>
            <p:spPr>
              <a:xfrm>
                <a:off x="356760" y="349704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일상생활 동작능력의 수준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1" name="Text Box 6"/>
              <p:cNvSpPr/>
              <p:nvPr/>
            </p:nvSpPr>
            <p:spPr>
              <a:xfrm>
                <a:off x="356760" y="407664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항목에 따라 차이 있지만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P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I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보다 높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요양보험제도에서는 일상생활 동작능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행동변화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간호처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활영역의 욕구를 고려하여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능상태와 요양욕구 평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의하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 P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제한이 있는 노인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8.7%, I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4.6%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소득 낮은 노인 등의 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 비율이 상대적으로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그룹 10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영양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직사각형 17"/>
            <p:cNvSpPr/>
            <p:nvPr/>
          </p:nvSpPr>
          <p:spPr>
            <a:xfrm>
              <a:off x="285480" y="857160"/>
              <a:ext cx="6157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년기의 영양문제 유발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Group 12"/>
            <p:cNvGrpSpPr/>
            <p:nvPr/>
          </p:nvGrpSpPr>
          <p:grpSpPr>
            <a:xfrm>
              <a:off x="285480" y="1285920"/>
              <a:ext cx="8572320" cy="5072040"/>
              <a:chOff x="285480" y="1285920"/>
              <a:chExt cx="8572320" cy="507204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285480" y="1285920"/>
                <a:ext cx="857232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356760" y="1285920"/>
                <a:ext cx="8501040" cy="78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저하와 치아결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기계의 기능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자재 구입과 조리의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신 생활 또는 빈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무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직사각형 18"/>
              <p:cNvSpPr/>
              <p:nvPr/>
            </p:nvSpPr>
            <p:spPr>
              <a:xfrm>
                <a:off x="285480" y="2357280"/>
                <a:ext cx="6643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의 영양권장량과 영양소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0" name="AutoShape 2"/>
              <p:cNvSpPr/>
              <p:nvPr/>
            </p:nvSpPr>
            <p:spPr>
              <a:xfrm>
                <a:off x="285480" y="2786040"/>
                <a:ext cx="8572320" cy="357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6"/>
              <p:cNvSpPr/>
              <p:nvPr/>
            </p:nvSpPr>
            <p:spPr>
              <a:xfrm>
                <a:off x="356760" y="2786040"/>
                <a:ext cx="8286840" cy="35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에너지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 남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Ca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1600Cal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는 전반적으로 열량섭취를 줄이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기질은 충분히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영양소를 균형 있게 섭취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소별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한섭취량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에너지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3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 나트륨은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, C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티아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이아신 등은 기준 이하 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관리 필요 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바람직한 식사지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13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올바른 식습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골고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맞게 세끼 식사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간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체중 시에 체중조절을 위한 식이요법이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질병시에는 식이요법의 병행이 필요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그룹 1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grpSp>
          <p:nvGrpSpPr>
            <p:cNvPr id="523" name="그룹 38"/>
            <p:cNvGrpSpPr/>
            <p:nvPr/>
          </p:nvGrpSpPr>
          <p:grpSpPr>
            <a:xfrm>
              <a:off x="285480" y="1857240"/>
              <a:ext cx="8715600" cy="4429440"/>
              <a:chOff x="285480" y="1857240"/>
              <a:chExt cx="8715600" cy="4429440"/>
            </a:xfrm>
          </p:grpSpPr>
          <p:sp>
            <p:nvSpPr>
              <p:cNvPr id="524" name="AutoShape 2"/>
              <p:cNvSpPr/>
              <p:nvPr/>
            </p:nvSpPr>
            <p:spPr>
              <a:xfrm>
                <a:off x="285480" y="4394520"/>
                <a:ext cx="8715600" cy="1892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AutoShape 2"/>
              <p:cNvSpPr/>
              <p:nvPr/>
            </p:nvSpPr>
            <p:spPr>
              <a:xfrm>
                <a:off x="285480" y="1857240"/>
                <a:ext cx="871560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7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환자의 케어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8" name="그룹 15"/>
            <p:cNvGrpSpPr/>
            <p:nvPr/>
          </p:nvGrpSpPr>
          <p:grpSpPr>
            <a:xfrm>
              <a:off x="357120" y="1500120"/>
              <a:ext cx="8643960" cy="4703400"/>
              <a:chOff x="357120" y="1500120"/>
              <a:chExt cx="8643960" cy="4703400"/>
            </a:xfrm>
          </p:grpSpPr>
          <p:grpSp>
            <p:nvGrpSpPr>
              <p:cNvPr id="529" name="그룹 10"/>
              <p:cNvGrpSpPr/>
              <p:nvPr/>
            </p:nvGrpSpPr>
            <p:grpSpPr>
              <a:xfrm>
                <a:off x="357120" y="1500120"/>
                <a:ext cx="8643960" cy="2272680"/>
                <a:chOff x="357120" y="1500120"/>
                <a:chExt cx="8643960" cy="2272680"/>
              </a:xfrm>
            </p:grpSpPr>
            <p:sp>
              <p:nvSpPr>
                <p:cNvPr id="530" name="AutoShape 4"/>
                <p:cNvSpPr/>
                <p:nvPr/>
              </p:nvSpPr>
              <p:spPr>
                <a:xfrm>
                  <a:off x="357120" y="15001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.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(care)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의 개념과 특성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1" name="Text Box 6"/>
                <p:cNvSpPr/>
                <p:nvPr/>
              </p:nvSpPr>
              <p:spPr>
                <a:xfrm>
                  <a:off x="357120" y="2001600"/>
                  <a:ext cx="8643960" cy="177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질병이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장애가 있는 자에게 전문지식과 기술에 기반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서비스 또는 원조행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장기요양보험에서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양’으로 번역됨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는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완과 지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은 자립생활 능력 배양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원칙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결정권 존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속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의 활용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실천단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획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행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평가단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그룹 10"/>
              <p:cNvGrpSpPr/>
              <p:nvPr/>
            </p:nvGrpSpPr>
            <p:grpSpPr>
              <a:xfrm>
                <a:off x="357120" y="4068720"/>
                <a:ext cx="8501400" cy="2134800"/>
                <a:chOff x="357120" y="4068720"/>
                <a:chExt cx="8501400" cy="2134800"/>
              </a:xfrm>
            </p:grpSpPr>
            <p:sp>
              <p:nvSpPr>
                <p:cNvPr id="533" name="AutoShape 4"/>
                <p:cNvSpPr/>
                <p:nvPr/>
              </p:nvSpPr>
              <p:spPr>
                <a:xfrm>
                  <a:off x="357120" y="40687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 기술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4" name="Text Box 6"/>
                <p:cNvSpPr/>
                <p:nvPr/>
              </p:nvSpPr>
              <p:spPr>
                <a:xfrm>
                  <a:off x="357120" y="4660920"/>
                  <a:ext cx="850140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체적 케어 욕구와 문제해결을 위해 사용하는 케어 방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기술의 조건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전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락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확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능숙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활동은 케어 가치관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전문지식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숙련된 기술을 바탕으로 하여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대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의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욕구와 문제에 맞게 개별화된 기술을 활용해야 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AutoShape 2"/>
            <p:cNvSpPr/>
            <p:nvPr/>
          </p:nvSpPr>
          <p:spPr>
            <a:xfrm>
              <a:off x="285480" y="785880"/>
              <a:ext cx="871560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285480" y="823680"/>
              <a:ext cx="87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령노인증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부양기능의 약화로 장기요양욕구 지닌 노인 인구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0T23:26:07Z</dcterms:modified>
  <cp:revision>25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